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2A51-F54D-4B51-ADD1-BCB036598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F90-A527-44F7-8434-DE50ADCCA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78A7-63DE-4B72-BC17-8A7301F3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4025-7374-4B3D-B426-BFCB77384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A02C-16DE-483F-912A-9717B377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76C7-32D2-43CA-B079-95F07251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7F0-6AA4-4D2B-98E7-EB3AAC21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A66-10FC-46F3-89FA-885B827E5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17C-680D-4844-A062-2537FC9C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9F40-DAC1-4B08-A9C3-D6218048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9D13-2ABD-4DD3-AD9A-C7A932CE4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42A-953F-4F56-B1E2-A79F380A3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CDD4-78A2-4F57-B718-6E064D3C3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1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ch the definition with one of the words undernea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ent indicating strong criticism or disapprov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Brack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Incendi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Cele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Animadver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bject that serves as a charm or is believed to confer magical powers, an amulet, fet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uppli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ali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roprie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Pejor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per or disrespectful treatment of something held sac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Sacrile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Talis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Halcy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, not hidden, expressed or revealed in a way that is easily recogn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Gam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Ov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My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rous of something to the point of greed; intensely ea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Histrion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Myop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3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much agitated or upset as a result of emotion or mental confli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av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Unwo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Utop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Distrau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f or mental accep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Cre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ropinq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Ex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usual or accepted; not in charac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Unwo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Ver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Nefar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Piqu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splay clearly, to make evident, to provo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rtic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Exh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v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Cav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get and retain ideas or information; concerned with acquiring wealth or prope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he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quis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sguise or conceal, deliberately give a false i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Dec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Disse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Mur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Feck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that is too wordy or inflated in proportion to the sense or content, wordiness; a manner of ex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Verd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Articu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Piqu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Verbi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nony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or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simi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Clou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Pri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Taste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bi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nor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g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rd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usto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Orig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Art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Help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i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Exhi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Gamb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Comm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Ma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sem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Eluci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De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c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Rem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Th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Ineffect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Repreh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hu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Un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Dic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Mum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Cen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rk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Iniquit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 Gum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 Testimon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 Uncl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A formal expression of praise, a lavish 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-Embr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-Irrelev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nsigent-Luke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se-Stingi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iturn-Loqu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-Indef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id-Reluc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ckish-Fre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ious-Di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cyon-Turbul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opic-Farsigh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jorative-Complimen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tony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ry-T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ckless-Compe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quant-B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nquity-Remote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topian-Reali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dant-Scorc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-55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5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To work on excessively; to thrash soun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o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g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abo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 A survey made for military purposes; any kind of preliminary inspection or exa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nnaiss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ansig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citu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stablish by evidence, prove; to give concrete or substantial form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n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id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ch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antia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evant, appropriate, apropos, fi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rm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or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pter 2 Vocabu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pproach and speak to first; to confront in a challenging or aggressive w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Av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Maelst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Acc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De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39:26Z</dcterms:created>
  <dc:creator>DU</dc:creator>
  <dc:description/>
  <dc:language>en-US</dc:language>
  <cp:lastModifiedBy>DU</cp:lastModifiedBy>
  <dcterms:modified xsi:type="dcterms:W3CDTF">2006-10-10T15:41:42Z</dcterms:modified>
  <cp:revision>2</cp:revision>
  <dc:subject/>
  <dc:title>Chapter 1 Vocabulary</dc:title>
</cp:coreProperties>
</file>